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CCB-75C2-4D43-9841-08021B38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D28-8DF6-467B-B1C8-EF5738F8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077-61B6-4DCC-ADB2-9B66F8CE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803-1CFD-4B1E-A109-D8BF7A82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78FD-3720-48AA-AD51-75FADDC3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C003-308E-4F68-A9A7-B224EA1B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613F-E1F1-495C-901A-4F950B8E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6A9A-470A-4D2A-A24B-62D3BAC7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EE11-3EF3-4139-A0BF-96C19C99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DDFC-483A-435E-A3B2-0350247C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0799-3037-4382-A2F1-725E3DD0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C77-BFB1-47FC-B186-EC2CB278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E828-3D5C-4639-B78A-A51AF629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6617-1642-4D99-BD55-2530A6D0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164F-3DC1-4646-A82B-5950A08D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57A0-0889-4A20-A243-8EB15055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3E4B-CDE8-4EDF-A205-34A122A7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174-EA6C-4B03-AF73-63484FA6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6C2-1615-4B78-B979-8C2771F6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5EB-D633-4268-9A0A-0CA05606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96A-DC49-450E-94B8-FBE6AB6B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DB29-2620-4D4D-8517-91D07BC8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2A8-32B8-4A48-A5F5-9B953056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E9B8-3018-467A-9678-8E678D74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DDA6-5E81-46DF-B5D0-9086C44BCF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34BA-6E09-47DE-B6E5-11376CAD917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420000"/>
                </a:solidFill>
                <a:latin typeface="BlackChancery"/>
              </a:rPr>
              <a:t>Genetics Continued…</a:t>
            </a:r>
            <a:endParaRPr b="0" lang="en-US" sz="6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Garamond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BlackChancery"/>
              </a:rPr>
              <a:t>Probability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Garamond"/>
              </a:rPr>
              <a:t>Mendel counted the offspring every time he performed a cr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Garamond"/>
              </a:rPr>
              <a:t>He used his background in statistics and realized that the principles of probability can be used to explain and predict genetic cro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BlackChancery"/>
              </a:rPr>
              <a:t>Probability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1. </a:t>
            </a:r>
            <a:r>
              <a:rPr b="1" lang="en-US" sz="3200" spc="-1" strike="noStrike" u="sng">
                <a:solidFill>
                  <a:srgbClr val="420000"/>
                </a:solidFill>
                <a:uFillTx/>
                <a:latin typeface="Garamond"/>
              </a:rPr>
              <a:t>probability</a:t>
            </a:r>
            <a:r>
              <a:rPr b="1" lang="en-US" sz="3200" spc="-1" strike="noStrike">
                <a:solidFill>
                  <a:srgbClr val="42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the likelihood that a particul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even will occ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(a) Example: flipping a c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1. may land on heads or 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2. chances of either outcome are 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eq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3. probability = 1 in 2 = ½ = 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BlackChancery"/>
              </a:rPr>
              <a:t>How does this relate to genetics?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2. The way in which alleles segregate is comple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    </a:t>
            </a: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(a) the principles of probability can be used to predict the outcomes of genetic cr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3. </a:t>
            </a:r>
            <a:r>
              <a:rPr b="1" lang="en-US" sz="2800" spc="-1" strike="noStrike" u="sng">
                <a:solidFill>
                  <a:srgbClr val="420000"/>
                </a:solidFill>
                <a:uFillTx/>
                <a:latin typeface="Garamond"/>
              </a:rPr>
              <a:t>Punnett squares</a:t>
            </a: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 are used to predict outcomes of genetic cr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(a) </a:t>
            </a:r>
            <a:r>
              <a:rPr b="1" lang="en-US" sz="2800" spc="-1" strike="noStrike" u="sng">
                <a:solidFill>
                  <a:srgbClr val="420000"/>
                </a:solidFill>
                <a:uFillTx/>
                <a:latin typeface="Garamond"/>
              </a:rPr>
              <a:t>punnett square</a:t>
            </a:r>
            <a:r>
              <a:rPr b="1" lang="en-US" sz="2800" spc="-1" strike="noStrike">
                <a:solidFill>
                  <a:srgbClr val="42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 diagram used to determined the gene combinations that might result from a genetic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553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BlackChancery"/>
              </a:rPr>
              <a:t>Some Vocabulary…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420000"/>
                </a:solidFill>
                <a:uFillTx/>
                <a:latin typeface="Garamond"/>
              </a:rPr>
              <a:t>homozygous</a:t>
            </a:r>
            <a:r>
              <a:rPr b="1" lang="en-US" sz="3200" spc="-1" strike="noStrike">
                <a:solidFill>
                  <a:srgbClr val="42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organisms that have two identical alleles for a particular tr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(a) “true-breed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(b) Example:  TT or 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5. </a:t>
            </a:r>
            <a:r>
              <a:rPr b="1" lang="en-US" sz="3200" spc="-1" strike="noStrike" u="sng">
                <a:solidFill>
                  <a:srgbClr val="420000"/>
                </a:solidFill>
                <a:uFillTx/>
                <a:latin typeface="Garamond"/>
              </a:rPr>
              <a:t>heterozygous</a:t>
            </a:r>
            <a:r>
              <a:rPr b="1" lang="en-US" sz="3200" spc="-1" strike="noStrike">
                <a:solidFill>
                  <a:srgbClr val="42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organisms that have two different alleles for the same tr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(a) “hybri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(b) Example:  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420000"/>
                </a:solidFill>
                <a:uFillTx/>
                <a:latin typeface="Garamond"/>
              </a:rPr>
              <a:t>phenotype</a:t>
            </a:r>
            <a:r>
              <a:rPr b="1" lang="en-US" sz="3200" spc="-1" strike="noStrike">
                <a:solidFill>
                  <a:srgbClr val="42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physical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420000"/>
                </a:solidFill>
                <a:uFillTx/>
                <a:latin typeface="Garamond"/>
              </a:rPr>
              <a:t>genotype</a:t>
            </a:r>
            <a:r>
              <a:rPr b="1" lang="en-US" sz="3200" spc="-1" strike="noStrike">
                <a:solidFill>
                  <a:srgbClr val="42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genetic make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BlackChancery"/>
              </a:rPr>
              <a:t>Final Thought…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1. Probabilities predict the average outcome of a large number of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(a) </a:t>
            </a:r>
            <a:r>
              <a:rPr b="1" lang="en-US" sz="3200" spc="-1" strike="noStrike" u="sng">
                <a:solidFill>
                  <a:srgbClr val="420000"/>
                </a:solidFill>
                <a:uFillTx/>
                <a:latin typeface="Garamond"/>
              </a:rPr>
              <a:t>CANNOT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predict the precise outcome of an individual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(b) the more individuals counted the more likely the predicted ratios will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4568760" cy="63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BlackChancery"/>
              </a:rPr>
              <a:t>Do You Remember???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Garamond"/>
              </a:rPr>
              <a:t>Gene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Garamond"/>
              </a:rPr>
              <a:t>Gregor Men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Garamond"/>
              </a:rPr>
              <a:t>Tra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Garamond"/>
              </a:rPr>
              <a:t>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Garamond"/>
              </a:rPr>
              <a:t>Alle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0140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Garamond"/>
              </a:rPr>
              <a:t>Domi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0140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Garamond"/>
              </a:rPr>
              <a:t>Reces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562720" y="2133720"/>
            <a:ext cx="24987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3300"/>
                </a:solidFill>
                <a:latin typeface="Garamond"/>
              </a:rPr>
              <a:t>Do recessive alleles disappear, or are they still present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-42264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In order to answer this question, Mendel crossed the F</a:t>
            </a:r>
            <a:r>
              <a:rPr b="1" lang="en-US" sz="3200" spc="-1" strike="noStrike" baseline="-25000">
                <a:solidFill>
                  <a:srgbClr val="420000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generation plants to see what types of offspring would be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42264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The traits controlled by recessive alleles showed up in the </a:t>
            </a:r>
            <a:r>
              <a:rPr b="1" lang="en-US" sz="3200" spc="-1" strike="noStrike" u="sng">
                <a:solidFill>
                  <a:srgbClr val="420000"/>
                </a:solidFill>
                <a:uFillTx/>
                <a:latin typeface="Garamond"/>
              </a:rPr>
              <a:t>F</a:t>
            </a:r>
            <a:r>
              <a:rPr b="1" lang="en-US" sz="3200" spc="-1" strike="noStrike" u="sng" baseline="-25000">
                <a:solidFill>
                  <a:srgbClr val="420000"/>
                </a:solidFill>
                <a:uFillTx/>
                <a:latin typeface="Garamond"/>
              </a:rPr>
              <a:t>2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gener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840" indent="-39240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Roughly ¼ of the F</a:t>
            </a:r>
            <a:r>
              <a:rPr b="1" lang="en-US" sz="2800" spc="-1" strike="noStrike" baseline="-25000">
                <a:solidFill>
                  <a:srgbClr val="420000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 plants showed trait controlled by the recessive all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6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0000"/>
                </a:solidFill>
                <a:latin typeface="Garamond"/>
              </a:rPr>
              <a:t>Why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4187880" cy="5486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05320" y="685800"/>
            <a:ext cx="4114800" cy="2743200"/>
          </a:xfrm>
          <a:prstGeom prst="wedgeRoundRectCallout">
            <a:avLst>
              <a:gd name="adj1" fmla="val -44444"/>
              <a:gd name="adj2" fmla="val 6666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tillion"/>
              </a:rPr>
              <a:t>By golly I think it was 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SEGREGATION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BlackChancery"/>
              </a:rPr>
              <a:t>Segregation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1.  Each gamete (or sex cell) carries only one allele for a tr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(a) the 2 alleles come together in an offspring        and determine a specific tr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(b) BUT the alleles stay separat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                  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this is known as </a:t>
            </a:r>
            <a:r>
              <a:rPr b="1" lang="en-US" sz="3200" spc="-1" strike="noStrike" u="sng">
                <a:solidFill>
                  <a:srgbClr val="420000"/>
                </a:solidFill>
                <a:uFillTx/>
                <a:latin typeface="Garamond"/>
              </a:rPr>
              <a:t>segr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4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4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2.  </a:t>
            </a:r>
            <a:r>
              <a:rPr b="1" lang="en-US" sz="3200" spc="-1" strike="noStrike" u="sng">
                <a:solidFill>
                  <a:srgbClr val="420000"/>
                </a:solidFill>
                <a:uFillTx/>
                <a:latin typeface="Garamond"/>
              </a:rPr>
              <a:t>segregation</a:t>
            </a:r>
            <a:r>
              <a:rPr b="1" lang="en-US" sz="3200" spc="-1" strike="noStrike">
                <a:solidFill>
                  <a:srgbClr val="42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 separation of alleles during gamete 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Garamond"/>
              </a:rPr>
              <a:t>3.  So recessive alleles DO NOT disappear and can be passed on to offsp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8390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Gene Therapy Cartoon"/>
          <p:cNvPicPr/>
          <p:nvPr/>
        </p:nvPicPr>
        <p:blipFill>
          <a:blip r:embed="rId1"/>
          <a:stretch/>
        </p:blipFill>
        <p:spPr>
          <a:xfrm>
            <a:off x="0" y="0"/>
            <a:ext cx="914400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21:26:06Z</dcterms:created>
  <dc:creator> Kari Widdoes</dc:creator>
  <dc:description/>
  <dc:language>en-US</dc:language>
  <cp:lastModifiedBy>Narragansett School System</cp:lastModifiedBy>
  <dcterms:modified xsi:type="dcterms:W3CDTF">2007-02-27T17:25:29Z</dcterms:modified>
  <cp:revision>10</cp:revision>
  <dc:subject/>
  <dc:title>Genetics Continued…</dc:title>
</cp:coreProperties>
</file>